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540-9114-47F3-AC70-495672F0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684-07CC-4992-855D-768B8549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285-A788-452F-82CD-A8D0D5B7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413-D085-46CC-8475-99CD9BB3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9A1-7116-4450-8439-164FD68C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0E9-8AC4-4901-96B5-5599DA45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9B1-B7C8-4944-9EAE-C650D608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6F0-4140-4A24-AE86-6216171F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543-4EDB-4538-9164-C61865C0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765-B6E0-4FAA-B73E-5AD7671D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B09-18E7-4004-9BDD-1AFFF124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6CE-7911-4F8C-93D2-DD79659C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F677-6AAB-4947-83B4-CEE157C3D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Here lies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He was as cold as an icic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He was as good as a man that the old city knew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WA</cp:lastModifiedBy>
  <dcterms:modified xsi:type="dcterms:W3CDTF">2009-12-10T20:19:38Z</dcterms:modified>
  <cp:revision>7</cp:revision>
  <dc:subject/>
  <dc:title>Slide 1</dc:title>
</cp:coreProperties>
</file>